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F33-F6C1-4A96-A9A4-E4F005F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84D-03F2-4DB1-8031-CC88FE8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7F3-0375-4AB5-BF5F-F5C13EC6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B0B-F08D-470F-95AB-AD2D5665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9F9-4257-472C-A854-CBD55D0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EBB-3637-47EB-ACD7-D2EA9399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14D-6406-4887-846A-50F73E6B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3FC-FD27-4770-B944-29643EB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A1A-477F-4841-9955-7A126EE3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D5E-4F6D-4402-944F-692F67F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D40-5232-4707-B464-730848A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9B5-ACD5-497C-A1DB-C1BFC35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ACF-BDB3-49C9-8988-800A3156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person start a corporation with a minimal cash inves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d depreciation measures the decline in the market value of a fixed ass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vising useful life and residual value estimates for an asset, the revisions only affect the amounts of depreciation expense for future peri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fixed asset is sold for an amount different from its book value, it is not necessary to record a gain or a loss on the disposal of the as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of the following are included as costs of acquiring equipment ex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 mainten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an accelerated depreciation method i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of the following depreciation methods provides for equal amounts of depreciation expense for each year of the fixed asset’s useful lif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declin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s that improve the asset or extend its useful lif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d with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d in the curr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expendi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ed for separately from the cost of th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 a capital lease, the lessee records the payments at fair value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3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Operating Lease Expense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Long-term Lease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an asset and crediting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ing Cash and crediting Operating Lease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nsideration when calculating depreciation for a fixed as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use of the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usefu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letion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4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to recognize the declining market valu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reducing the value of intangible asse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to record the spoilage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transferring costs for natural resources to an expens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investment given to start a Fatburger restaurant include more than the rights to use the name of th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an example of an intangible as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 assets are normally reported on the balance sheet of a company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 separate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al entry to record depreciation for a fixed asset would includ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41560"/>
            <a:ext cx="4114800" cy="25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ccumulated Depr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Fixed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Depreciation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009800"/>
            <a:ext cx="8305920" cy="17953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18, GTS Co. paid $1,200 to upgrade a hydraulic lift and $45 for an oil change for one of its delivery trucks. The amount that should be debit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Delivery Truck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11472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76212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epreciable cost, (b) the straight-line rate, and (c) the annual straight-line 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7339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5,000, (b) 10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$120,000, (b) 1%, &amp; (c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3611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5,000, (b) 10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$120,000, (b) 1%, &amp; (c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719280"/>
            <a:ext cx="8305920" cy="26485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acquired at the beginning of the year at a cost of $125,000 has an estimated residual value of $5,000 and an estimated useful life of 10 years. Determine (a) the double-declining-balance rate and (b) the double-declining-balance depreciation for the fir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457200" y="4114800"/>
          <a:ext cx="8229600" cy="2133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5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10% &amp; (b) $1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) 20% &amp; (b) $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9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114800" cy="3306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10% &amp; (b) $12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) 20% &amp; (b)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cash investment in a Fatburger restaurant be shown in the company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corporation is formed and operating, will additional investments in fixed assets be requ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owner of a company with investments in fixed assets, is it necessary to account for the wear and tear on the fixed assets of the comp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expenditures improve the asset or extend its useful l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lived fixed assets held for resale are not classified as fixed assets, but as inves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st of acquiring fixed assets includes all amounts spent to get the asset in place and ready fo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erating lease is accounted for as if the lessee is renting the asset for the leas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343400" y="1981080"/>
          <a:ext cx="463536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463536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81120"/>
            <a:ext cx="4114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58:33Z</dcterms:created>
  <dc:creator> </dc:creator>
  <dc:description/>
  <dc:language>en-US</dc:language>
  <cp:lastModifiedBy>Leslie</cp:lastModifiedBy>
  <dcterms:modified xsi:type="dcterms:W3CDTF">2008-12-30T03:06:43Z</dcterms:modified>
  <cp:revision>42</cp:revision>
  <dc:subject/>
  <dc:title>Is the investment for starting any corporation such as Fatburger Corporation always this costly?</dc:title>
</cp:coreProperties>
</file>